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74E7-C71D-447C-87AF-4F46F9BF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37FA-9E6D-462E-8860-3EEB2EC1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D25A-B3B9-4370-9F3E-98E5C774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A322-1AAB-46E8-A2DC-1D9CA318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3D29-4EB6-4ACB-B734-95CD6073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37C-EEE5-4333-BD1A-91597F8B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F635-55F2-4923-BA37-00EDB59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BCF-8E51-41ED-9CE4-5DC0EA40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73EA-D8F8-4B75-906D-FE7370C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EF74-233C-4850-AD5C-99E4119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0CF0-41DE-43AD-A895-8C22B13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826F-EB8C-4090-A25A-631A0AB3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583-4BA2-44C6-AA3B-07F0CD0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85C9-CCBF-4F07-86AB-0CCFA38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ABF-B943-4BCF-B105-9B77853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AD3B-2612-4DCD-8A22-47F836F4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F107-5AA4-4C10-8578-2AA9217E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B17E-BD5D-4DD7-8A63-9D5C8E64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E0A7-2B95-4599-935A-E18746B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F378-C633-4B61-8DC9-1538AC37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FA52-424A-432E-93E3-32F9141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F931-4554-4F64-A6AA-9A3DA52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EFAD-242E-48DD-9A2D-BB55F92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688F-1FFC-453F-8839-53C12A58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5B47-C799-48D3-9545-574A932E2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61A8-AE16-490C-BA79-01A5CF27A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leaner.com/" TargetMode="External"/><Relationship Id="rId2" Type="http://schemas.openxmlformats.org/officeDocument/2006/relationships/hyperlink" Target="http://www.wincleaner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weaknow.com/RegCleaner.html" TargetMode="External"/><Relationship Id="rId2" Type="http://schemas.openxmlformats.org/officeDocument/2006/relationships/hyperlink" Target="http://www.pctools.com/registry-mechanic/?ref=download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xp/sp2/default.mspx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ackerwatch.org/probe/" TargetMode="External"/><Relationship Id="rId2" Type="http://schemas.openxmlformats.org/officeDocument/2006/relationships/hyperlink" Target="https://www.grc.com/x/ne.dll?bh0bkyd2" TargetMode="External"/><Relationship Id="rId3" Type="http://schemas.openxmlformats.org/officeDocument/2006/relationships/hyperlink" Target="http://scan.sygate.com/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ownload-firefox.org/" TargetMode="External"/><Relationship Id="rId3" Type="http://schemas.openxmlformats.org/officeDocument/2006/relationships/hyperlink" Target="http://toolbar.google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usecall.trendmicro.com/" TargetMode="External"/><Relationship Id="rId2" Type="http://schemas.openxmlformats.org/officeDocument/2006/relationships/hyperlink" Target="http://www.pandasoftware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fer-networking.org/en/download/index.html" TargetMode="External"/><Relationship Id="rId2" Type="http://schemas.openxmlformats.org/officeDocument/2006/relationships/hyperlink" Target="http://www.lavasoftusa.com/software/adaware/" TargetMode="External"/><Relationship Id="rId3" Type="http://schemas.openxmlformats.org/officeDocument/2006/relationships/hyperlink" Target="http://www.lavasoftusa.com/software/adawareplus/" TargetMode="External"/><Relationship Id="rId4" Type="http://schemas.openxmlformats.org/officeDocument/2006/relationships/hyperlink" Target="http://www.lavasoftusa.com/software/adawareplus/" TargetMode="External"/><Relationship Id="rId5" Type="http://schemas.openxmlformats.org/officeDocument/2006/relationships/hyperlink" Target="http://www.lavasoftusa.com/software/adawareplus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pport.microsoft.com/default.aspx?scid=kb;en-us;179306" TargetMode="External"/><Relationship Id="rId2" Type="http://schemas.openxmlformats.org/officeDocument/2006/relationships/hyperlink" Target="http://support.microsoft.com/default.aspx?scid=kb;en-us;179306" TargetMode="External"/><Relationship Id="rId3" Type="http://schemas.openxmlformats.org/officeDocument/2006/relationships/hyperlink" Target="http://support.microsoft.com/default.aspx?scid=kb;en-us;179306" TargetMode="Externa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You Don’t have to be a Computer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to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keep your computer Healt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2814480" cy="17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Cleaning Unused “Junk” Fi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Files created by Program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d Files from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ly Installed Program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leaning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er Windows versions Have a Basic Cleaning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Leaner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cleane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leaner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wincleane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Licen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Cleaning Unused Registry Entr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entries created b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ly Installed Program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leaning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aknow Basic (Free)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tweaknow.com/RegClean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 Mechanic (License)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pctools.com/registry-mechanic/?ref=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Hard Drive Fragm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fragmentation occurs when a file is broken up into pieces to fit on the disk. Because files are constantly being written, deleted and resized, fragmentation is a natural occurrence. When a file is spread out over several locations, it takes longer to read and wr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ragmenting the Hard Drive of a computer is one of the best ways to maintain and improve computer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to Defrag your Hard Drive at least once a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indows versions Have built in Defra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ragmenting can be Scheduled with Windows Tas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pport.microsoft.com/default.aspx?scid=kb;en-us;1793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iskeep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heeldergeek.com/disk_defragmenter_utilit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Hard Drive Fragmentation</a:t>
            </a:r>
            <a:br>
              <a:rPr sz="6000"/>
            </a:b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Keeping Windows Upda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update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Patches and Security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often, Once a month Recommen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Automated on Newer versions of Window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topping External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Browsing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s – 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10976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Firewa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f a number of security schemes that prevent un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from gaining access to a computer network or that monitor transfer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to and from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with Broadband ISPs outside of a Secur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 SP2 – Basic Firewall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microsoft.com/windowsxp/sp2/default.m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3rd Party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Alarm - </a:t>
            </a:r>
            <a:r>
              <a:rPr b="0" lang="en-US" sz="1800" spc="-1" strike="noStrike">
                <a:solidFill>
                  <a:srgbClr val="2756d9"/>
                </a:solidFill>
                <a:latin typeface="Arial"/>
              </a:rPr>
              <a:t>http://www.zonelab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esting Vulner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Your Def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a port sc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hackerwatch.org/prob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s://www.grc.com/x/ne.dll?bh0bky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scan.syg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552920" cy="3367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Internet Browsing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Pop-up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ternet Explorer –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icrosoft.com/windows/ie/default.m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Firefox Web Browser –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download-firefox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Toolbar –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toolbar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-Watch - Part of Ad-Aware Plus Edition (Licen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Downloads – Free Softw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bies, Yes or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Really Fr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ource For Ad-Ware, Spy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EULA “End User License Agre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“Spyware, Adware - Additional Info” Folder on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571840" cy="221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hreats, Preventative Maintenance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ing External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276640" cy="226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0.3331 L 0 -1.40874E-006 E">
                                      <p:cBhvr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Possible Threats, Preventative Maintenance and Optimiz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yware &amp; A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riv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Unused “Junk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Unused Registry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rive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ing Windows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Vir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replicating, malicious code that attaches itself to an application program or other executable system component and leaves no obvious signs of its pres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 usually via Email Attachments and Shar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Very Destructive – Destroys Computer Data, Mali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PC on a Minimum of a Weekly Basis, Every Other Da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86600" y="2819520"/>
            <a:ext cx="1773360" cy="28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use an Antivirus Scanner with Act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Norton Antivirus – Licen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ymantecsto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Avast! 4 Home Edition - Free antiviru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vast.com/eng/avast_4_hom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 Free Online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micro’s Housecall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housecall.trendmicr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da Software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pandasoftwa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Definitions Weekly –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5720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Vir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pyware &amp; Adw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y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echnology that aids in gathering information about a person or organization without their 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acking Software that displays Ads according to users surfing hab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 covertly installed without uses knowledge – Disguised as something desirable; Free Software: Screensavers, Desktop Enhancement, 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cesses Slow Down and even Lockup Computers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Very Dangerous and Destructive - Personal Information Stolen, Destroyed/Corrup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efinitions Weekly – Automat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pyware &amp; Adware</a:t>
            </a:r>
            <a:br>
              <a:rPr sz="6000"/>
            </a:b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PC at a Minimum of a Weekly Basis, Every Other Da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Use a Scanner with Act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Spybot Search and Destroy –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fer-networking.org/en/download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Ad-Aware SE Personal –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lavasoftusa.com/software/adawar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Ad-Aware SE Plus (Monitoring) –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.lavasoftusa.com/software/adawareplus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pyware &amp; Adware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Hard Drive Err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per Shutd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Hard Drive for Errors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All Windows Versions have Built in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Scans can be Scheduled via Task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upport.microsoft.com/default.aspx?scid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=kb;en-us;179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15000" y="1752480"/>
            <a:ext cx="235440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5:24:07Z</dcterms:created>
  <dc:creator>VA</dc:creator>
  <dc:description/>
  <dc:language>en-US</dc:language>
  <cp:lastModifiedBy>admin</cp:lastModifiedBy>
  <dcterms:modified xsi:type="dcterms:W3CDTF">2006-03-07T17:41:26Z</dcterms:modified>
  <cp:revision>54</cp:revision>
  <dc:subject/>
  <dc:title>Stop External (Internet) Threats </dc:title>
</cp:coreProperties>
</file>